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7BF-088E-44F9-91A5-1BFFBCC0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F1B-15F6-4BB3-B1C5-3FAD89C9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9DF-6E00-4E3B-953D-9BB74848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8C04-909E-432D-9F00-13C47A47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54E-3FFE-4658-B5F0-108B795A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A78-DB32-4BB6-B4F5-6BB2FD30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126-8BF3-412A-8E07-963FF960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8EA-46CC-4B1D-84A7-EEDB4AE0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569-FC2F-4C05-8C35-563BC1C5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73D-0AA5-4954-AF87-E151F106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45F-58BE-4394-9737-96F043C5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3D84-87C1-4FBF-9369-430D9382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198E-876A-487F-A056-34B834F5B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s: Arial 12pt          Lines: 1.75pt          Zoom: 66%          width: Preferred &lt;518px; Max 560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819520"/>
            <a:ext cx="1828800" cy="137160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PC23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7 B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controll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50532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124080"/>
            <a:ext cx="533160" cy="76212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0532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000" y="32004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0560" y="3200400"/>
            <a:ext cx="4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5295600" y="2933640"/>
            <a:ext cx="1219320" cy="1143000"/>
          </a:xfrm>
          <a:prstGeom prst="triangle">
            <a:avLst>
              <a:gd name="adj" fmla="val 50000"/>
            </a:avLst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9000" y="3276720"/>
            <a:ext cx="6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505320"/>
            <a:ext cx="6098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ound"/>
          <p:cNvSpPr/>
          <p:nvPr/>
        </p:nvSpPr>
        <p:spPr>
          <a:xfrm>
            <a:off x="7010280" y="2971800"/>
            <a:ext cx="1067040" cy="1123920"/>
          </a:xfrm>
          <a:prstGeom prst="pie">
            <a:avLst/>
          </a:prstGeom>
          <a:solidFill>
            <a:srgbClr val="e0e0e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9:33:50Z</dcterms:created>
  <dc:creator>Brett Duke</dc:creator>
  <dc:description/>
  <dc:language>en-US</dc:language>
  <cp:lastModifiedBy>Jim Earle</cp:lastModifiedBy>
  <dcterms:modified xsi:type="dcterms:W3CDTF">2007-12-17T13:39:53Z</dcterms:modified>
  <cp:revision>35</cp:revision>
  <dc:subject/>
  <dc:title>Generic Block Diagram</dc:title>
</cp:coreProperties>
</file>